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259-6BD2-470A-A876-BD90C9F3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71B-B8DA-4E86-AD8E-3E070F61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AA0-680F-497A-9894-3C13C671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37D-2271-408C-9704-76623E15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5D-5E52-4AA7-BF66-26D2917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7D3-D0B9-4E45-8EB5-FA49156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59E-26C8-4B74-921D-B9D5807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A1E-FCF6-4BC7-9385-5A8A3A6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A09-1186-429A-94F4-84EB6AF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0BA-7112-460B-B95D-9EC157C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06B-0265-4AC7-8998-40B90F1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7DD-E4FD-4B58-802E-48B80BA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D78-4CDE-4A44-9C19-DEA24BABF7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1:34:19Z</dcterms:created>
  <dc:creator>Grupo Editorial</dc:creator>
  <dc:description/>
  <dc:language>en-US</dc:language>
  <cp:lastModifiedBy>TORRES</cp:lastModifiedBy>
  <dcterms:modified xsi:type="dcterms:W3CDTF">2010-12-18T22:20:07Z</dcterms:modified>
  <cp:revision>1</cp:revision>
  <dc:subject/>
  <dc:title>Sin título de diapositiva</dc:title>
</cp:coreProperties>
</file>